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0C13-B17A-485C-B7D8-A57F41BEE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C8D8-6E3C-4D85-BB50-76D8F6818C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9177-D877-46B6-A4EE-106F2D69F1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B777-5AB1-4C78-B617-C838E5206F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3373-8B19-4AA8-9CAC-0AE29AC918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7BFF-69CB-40B6-8193-243C3CC305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4294-B423-4EDC-AD43-C43A5202CD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5B7B-B388-4D7C-B2FD-5808967E7D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3AB9-3153-4EE6-B569-8B3E109641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35DB-7D50-4A70-8940-21F983E4EA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45BF-3317-4CCB-AE3D-5C631C9625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E7CB-9806-453A-B391-57E75F31DB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2D70-B0CF-4C0B-95F8-8D788F4EE5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C6E9-FACD-4A3D-AA73-B229150A67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F330-4CC7-40FA-A1FF-892D144D7F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C893-16B8-4E63-98D8-DABDB4E070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8CC6-8611-4834-A67C-CCE15E5C03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2F56-3AF8-408D-A460-9259D4D896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B85A-F042-4164-BD2B-9DAD660CDA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6979-E20C-46D8-8338-E3263AF922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D842-0668-4A15-ABAD-AA063992C9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9F52-CE62-4A44-93D3-F09898F7BE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ED2D-35A4-4A51-AEBC-2DE4E876AA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FCB5-A689-4C8C-97CB-4F1D5F7AE8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EE17-6410-4661-A4D6-4D563ACF27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086B-C4A5-44AD-9B8C-BA20717AB5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272D-9F29-43E0-BC11-4A500EC196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8CA0-E8F6-411F-8D93-44B3DA9FDD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72B2-AB8A-44AA-BC18-7ECD19BC45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3DFF-FB04-4BEE-9E46-E83059D601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13EF-950B-41DF-B127-2CE73A4EF8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F4F2-2279-4D5A-8264-F3792F74A5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ACD2-F986-4E82-8757-EA980DEC4E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4E8D-295C-4F91-933E-A3AF483647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6D90-92F8-4599-828C-0A6EE144AD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4CE8-8887-499E-B538-660FE4F92C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1C2E-83B9-4A8A-8389-2B29E390F0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17E8-ECB1-4514-AE67-26F32E1D4C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E7D3-B6D7-4075-995C-0D8CC2DA51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16C0-2310-4FA7-8045-53A401F7CA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73A7-2131-414E-B706-3CD72141D6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9A07-496D-4778-83EC-90F3CA04CE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8B96-E497-48E3-AD98-5A04312DEB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6D92-490A-4F2E-86B0-8008303B27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3B14-17C8-4E71-A150-1D8AD1B77D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A720-0E89-4B29-9CDF-9BAE874A42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4B11-341F-4905-892E-5A66643451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4A2E-012C-4E23-A244-352A34F504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CB14-820A-4DAF-8E9E-83447B3F28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9748-C9DA-4524-952D-E6FB1FA0AD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60E0-CFE6-4F47-AD99-126CDCC7CD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DAB1-2250-4353-8865-D493A68181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8AB-F969-4336-AD71-5524C9F7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BBB-CEB3-4D5D-A619-B8F281CB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A5F-4E79-42A0-8B91-882CF90E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971-E3F7-4629-876C-7756EB22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C9A-5A25-4A6D-8A6F-737570E6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C59-F21E-4365-95B9-2DBEF1E6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FF3-FB09-480F-A385-C71C9625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00A-F594-4364-BD84-F141DE47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CAB-1F65-42BA-9DE7-7750BC83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19E-D745-48BE-B143-19704608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C1F-7B10-4E9E-BC45-4E1CD8F1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8F3-DB3B-44ED-857C-AE00F76A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618A-76B1-4300-A810-EFD4D6178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" Target="slide40.xml"/><Relationship Id="rId38" Type="http://schemas.openxmlformats.org/officeDocument/2006/relationships/slide" Target="slide40.xml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3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3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3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N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arl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ett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en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Willi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e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very first form of Democrac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League of Iroquois Nations/Five Tri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35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id the original colonists leave England and the King’s strict ru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Religious Pers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did the colonists first settle in 1607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Jamestown, Virgin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second settlement in North Ame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Plymouth in Massachusetts in 162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5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first Europeans in Pennsylv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Dutch, French and the Swed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05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two main Native American Tribes in Pennsylvania when the Colonists arriv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the first settlement in Pennsylvania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Johan Printz’s settlement on Tinicum Is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3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es Pennsylvania mean?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Penn’s Woo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exchange of goods and services without mon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barte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were the Society of Frie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is what the Quakers were first called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re the three sis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, squash, and beans grown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Algonquins and Iroquo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Experiment, what are the three main poi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freedom of religion and speech; everyone equal; people had a voice in the gover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William Penn acquire his 29 million acres in North Americ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ebt The King owed his fa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Pennsbury Manor and where was it loc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illiam Penn’s home on the Delaware Rive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id the Delawares show the first settlers in Pennsylvani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atch fish, hunt deer, trap animals, and grow the three sis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Philadelphia me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ity of Brotherly Lo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 the Longhou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William Penn show Tamanend resp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nn paid his tribe the Delawares for the land King Charles gave him and treated them fair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the name of the boat traveled over the ocean 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Welc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King could not repay the money he owed William Penn’s father, what did Penn ask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land in the New Wor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id sweat lodge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e illness and cleanse the bo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were all of the European Countries ruled b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Kings and Quee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ere Multi-Family dwellings for 10 to 12 Iroquois famil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ed if you did not believe in the King and Queen’s Church of Eng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were treated unfairly, put in jail, or kille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was it so hard to find out about the early Native Americans?……………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was no written language left behi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08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d the earliest Native Americans travel across to get away from the Ice Age in Europe and Asia and follow their food/ga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Bering Ice Bri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3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Richard DiMarco</cp:lastModifiedBy>
  <dcterms:modified xsi:type="dcterms:W3CDTF">2015-11-02T22:20:45Z</dcterms:modified>
  <cp:revision>70</cp:revision>
  <dc:subject/>
  <dc:title>No Slide Title</dc:title>
</cp:coreProperties>
</file>